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761C-E162-446D-A8D8-9EB61EC1E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DD12-10CB-4B32-B580-488389BB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A6CC-42BF-4FEE-A127-48B5F6CFF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BFD2-A591-4978-B943-38084BF8C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A6C29F-64A5-421A-A8DC-822966F6A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89D79-3008-41C7-8DB2-EE6F4A09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2052B7-5AA6-4E34-B3C1-C761CA64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EBD96A-4145-4999-BE57-F8EDDFCD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F91ACC-EE11-4982-BAF9-BBE205C3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44E37-30B0-4EBF-8987-E3796558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AE324-616C-48FD-927A-291C881C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49EB-D7F9-4AA0-B6C5-359560CB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BEF3A-282E-4CC3-A895-1164DD1A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F8D996-18B7-4679-8242-A2C4C41E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6F1C67-A90C-4256-B257-8F35FF21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E5E1C-6A94-49F1-BDB4-B4AC3120A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C310B-A428-4E60-BF62-6CD5957CB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CCF8-8591-4614-A75D-A9B5F7A1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9DA3-A57F-4768-B044-0EA214B9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F266-8F69-43EA-A680-38CA002A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2F2F-50B7-46FB-BF5F-C889A48C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2506-F37F-4EE6-8DCE-F60D06FE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3610-E47F-45FB-B080-1022E701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645D-6DA1-4089-9FD4-D550B7AD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2277-23C0-4F45-8B65-E9669873BD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5425-90BE-4E77-964F-3F82424EBC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cit.cornell.edu/policy/memos/facebook.html" TargetMode="External"/><Relationship Id="rId2" Type="http://schemas.openxmlformats.org/officeDocument/2006/relationships/hyperlink" Target="http://www.educause.edu/apps/er/erm06/erm0660.asp" TargetMode="External"/><Relationship Id="rId3" Type="http://schemas.openxmlformats.org/officeDocument/2006/relationships/hyperlink" Target="http://www.educause.edu/LIVE0621" TargetMode="External"/><Relationship Id="rId4" Type="http://schemas.openxmlformats.org/officeDocument/2006/relationships/hyperlink" Target="http://blogs.edgehill.ac.uk/webservices/2007/10/30/fear-of-facebook/" TargetMode="External"/><Relationship Id="rId5" Type="http://schemas.openxmlformats.org/officeDocument/2006/relationships/hyperlink" Target="http://student.independent.co.uk/university_life/article3068385.ece" TargetMode="External"/><Relationship Id="rId6" Type="http://schemas.openxmlformats.org/officeDocument/2006/relationships/hyperlink" Target="http://www.apple.com/au/education/digitalkids/disconnect/landscape.html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1447920"/>
            <a:ext cx="88394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Facebook: teaching, communicating and collaborating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ny Bre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d of IT Support Staff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esday 6 Novemb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isciplinary Ac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name your employer and then defame them or say anything to bring them into disrepu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xford Students have been disciplined with evidence from Facebook after post-exam “trash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pril, students at a Toronto school were banned from an end-of-the-year trip after disparaging remarks about a teacher were found on Faceb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o why use Facebook for Teaching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 and professional networking only differ in the content, not the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today are “digitally nativ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a divide between the way they learn and the way we te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re the digital immigrant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ing students the way they prefer to learn may improve attai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Digital Natives vs. Digital Immigrant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90720" y="1295280"/>
          <a:ext cx="7315200" cy="472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295280"/>
                    <a:ext cx="7315200" cy="47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525960" y="6361200"/>
            <a:ext cx="83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rce: http://www.apple.com/au/education/digitalkids/disconnect/landscape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each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ave your students in grou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ave them as Facebook “friends” perhaps with limited profile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t and share UR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eblearn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ading l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ther online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hotos &amp; Videos (but watch copyright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mmunica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scu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de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sted items (Weblearn URLs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up events and invi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ups for tutorial group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n’t have to be a friend to be in a group with some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al messages &amp;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llabora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ss-Institution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ject-specific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y sear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s or Events for specific conferences/mee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CISA is experimenting with th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 way to post and share videos and pho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al across HE worldwide (almost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forget ownership &amp; privacy issue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xercis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 profile if you don’t already have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ust your privacy 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in the Oxford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friends with your neighb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your neighbour only see your limited 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 for groups that cover your su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 group and invite your neighbour to it – or join an existing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a look at the Oxford network p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 for some people you k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usual names are easier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ttp://www.cit.cornell.edu/policy/memos/facebook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ful notes from Cornell (April 200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http://www.educause.edu/apps/er/erm06/erm0660.as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s from Educause December 2006 (lo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http://www.educause.edu/LIVE06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ve presentation: Facing Facebook and other social networking technolog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http://blogs.edgehill.ac.uk/webservices/2007/10/30/fear-of-facebook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ments from a UK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http://student.independent.co.uk/university_life/article3068385.e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tworking sites: Professors keep out! (October  0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6"/>
              </a:rPr>
              <a:t>http://www.apple.com/au/education/digitalkids/disconnect/landscape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“digital disconnec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ick Facebook 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vacy and Ownership Conce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iplinary 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bor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Facebook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social networking”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mework for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x control of who can see w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s have a “profile” with a picture* and other personal details as they wish, including “limited profi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“Network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ebook creates a newsfeed based on what your “friends” are do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80" y="6491160"/>
            <a:ext cx="70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 Picture is important for recognition, especially with common na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Facebook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rted in Harvard University Feb 20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ter added academic addresses (.edu, .ac.uk etc) making “networks” for “colleg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xford network has just over 33,000 people in it, out a possible c. 4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gional and Employer networks also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ional” anyone can join, but can’t change too of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mployer” requires email address in the right dom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pened to anyone with email in Sep 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acebook featur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sages INBOX (and threa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k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s &amp; Videos (with tagg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ed items (text and UR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ed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ther Social Networking Si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ebo – lots of school child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ySpace – musicians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metimes called “poor man’s facebook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riendfi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wi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d other minor 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rivacy Concer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worry about revealing their personal lives to the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tors and Students may want to keep things from each oth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ricted Profiles can hel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ty Theft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’t show DOB and Home Addres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ebook staff can check profiles (for policy violatio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gs are “cached” on the web so even if you put something up then remove it, it may still be held elsewhere for year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ow to control priva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vacy screen on Face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tings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s f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ke, message, friend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put stuff up you don’t want others to see.  Think about future employers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wnership Concer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acebook T&amp;Cs say that they own everything you put t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ll content on the Site … are the proprietary property of the Compan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pyright Policy is stri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t don’t put things up you intend to publish or otherwise claim copyright to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You acknowledge and agree that any questions, comments, suggestions, ideas, feedback or other information about the Site or the Service ("Submissions"), provided by you to Company are non-confidential and shall become the sole property of Compan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ny Brett</cp:lastModifiedBy>
  <dcterms:modified xsi:type="dcterms:W3CDTF">2007-11-06T11:26:5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